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70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27348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dt" idx="19"/>
          </p:nvPr>
        </p:nvSpPr>
        <p:spPr>
          <a:xfrm>
            <a:off x="4277880" y="-360"/>
            <a:ext cx="327348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ftr" idx="20"/>
          </p:nvPr>
        </p:nvSpPr>
        <p:spPr>
          <a:xfrm>
            <a:off x="-360" y="10156680"/>
            <a:ext cx="327348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 type="sldNum" idx="21"/>
          </p:nvPr>
        </p:nvSpPr>
        <p:spPr>
          <a:xfrm>
            <a:off x="4277880" y="10156680"/>
            <a:ext cx="327348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CED3399-6E33-4C24-A981-80AEFC0FCC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0"/>
          <p:cNvSpPr/>
          <p:nvPr/>
        </p:nvSpPr>
        <p:spPr>
          <a:xfrm>
            <a:off x="4278240" y="10156680"/>
            <a:ext cx="327348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2000BAB-03F3-49EF-BE2D-4C0996E8BF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1"/>
          <p:cNvSpPr/>
          <p:nvPr/>
        </p:nvSpPr>
        <p:spPr>
          <a:xfrm>
            <a:off x="1260360" y="801720"/>
            <a:ext cx="5038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body"/>
          </p:nvPr>
        </p:nvSpPr>
        <p:spPr>
          <a:xfrm>
            <a:off x="755280" y="5073840"/>
            <a:ext cx="6041880" cy="48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06640" y="811080"/>
            <a:ext cx="5341680" cy="40071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Espaço Reservado para Número de Slide 3"/>
          <p:cNvSpPr/>
          <p:nvPr/>
        </p:nvSpPr>
        <p:spPr>
          <a:xfrm>
            <a:off x="4278240" y="10156680"/>
            <a:ext cx="327348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2B84CC9-B495-48C8-937D-28872A494B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37000" cy="40035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Espaço Reservado para Número de Slide 3"/>
          <p:cNvSpPr/>
          <p:nvPr/>
        </p:nvSpPr>
        <p:spPr>
          <a:xfrm>
            <a:off x="4278240" y="10156680"/>
            <a:ext cx="327348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A48E2A8-9FE1-49BE-BE75-94A273324F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10"/>
          <p:cNvSpPr/>
          <p:nvPr/>
        </p:nvSpPr>
        <p:spPr>
          <a:xfrm>
            <a:off x="4278240" y="10156680"/>
            <a:ext cx="327348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C6C9E5F-644D-40EE-AC0D-77AFED0159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"/>
          <p:cNvSpPr/>
          <p:nvPr/>
        </p:nvSpPr>
        <p:spPr>
          <a:xfrm>
            <a:off x="1106640" y="801720"/>
            <a:ext cx="53467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1007640" y="5076360"/>
            <a:ext cx="5543640" cy="48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  <a:ea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0"/>
          <p:cNvSpPr/>
          <p:nvPr/>
        </p:nvSpPr>
        <p:spPr>
          <a:xfrm>
            <a:off x="4278240" y="10156680"/>
            <a:ext cx="327348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0D4E2FF-D857-4B99-97EF-D915882728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38440" cy="40053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10"/>
          <p:cNvSpPr/>
          <p:nvPr/>
        </p:nvSpPr>
        <p:spPr>
          <a:xfrm>
            <a:off x="4278240" y="10156680"/>
            <a:ext cx="327348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D8B80E7-7ADF-43FE-80C9-A74E56A415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10"/>
          <p:cNvSpPr/>
          <p:nvPr/>
        </p:nvSpPr>
        <p:spPr>
          <a:xfrm>
            <a:off x="4278240" y="10156680"/>
            <a:ext cx="327348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37E31A9-C5B6-4C41-BD50-C046624772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10"/>
          <p:cNvSpPr/>
          <p:nvPr/>
        </p:nvSpPr>
        <p:spPr>
          <a:xfrm>
            <a:off x="4278240" y="10156680"/>
            <a:ext cx="327348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A74FD6F-96D6-48D5-8F34-87B5A0ED06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712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3804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0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5712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63804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3147-F481-4715-8506-080EFDE2D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4F6E-F3D0-47E5-9028-4A743278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9D35-A30E-4011-9A63-849499A1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5181-0826-4EC1-97DA-35987984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3FD0-19C8-4DFA-B224-055404EF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16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B468-0098-4ADD-B255-79072BBB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87E5-C166-41C5-BA41-5860A9E7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E829-8C69-464D-B974-CF3977AF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A245-35D5-4165-BE72-D299DDF0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CAD4-0816-403E-AEB4-3FBF3E53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FBBA-BD6C-414E-A00F-A48B5C329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712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63804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40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5712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63804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ABCC-69A1-432B-BE82-16AC1FC77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B8F3-6C33-49F3-A98E-02C34CF4F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229A6-3A00-4DAC-968B-33B41F9E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5520-A249-4648-8394-7ABB8341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AB67-ED3E-4520-BB66-7B967849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00F4-6CD3-46B5-ABE4-CE1BD1AB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16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4748-F3C3-4BD1-82FE-2E488051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5E26-1DEE-4043-A297-8215F8C1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9D0A-CE50-4A7C-B92D-0018F769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F8A5-D748-481E-AD16-3B262058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D26E-7EC3-4E29-B7F4-95327C0C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EABE-9E20-4CC0-9B7A-F999F8B6E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712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63804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040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712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63804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B1F6-A828-4C33-9593-2646BBFB2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8E140-E4A1-4E9C-BD1E-7E947B1E1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D7045-B357-450A-88AE-050D1A79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31757-5784-44D1-8744-A3652D91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773B9-E57D-4936-BAAD-59DC79AC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F2A1C-AEBD-4C18-BBAD-CC709278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16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E2CDE-0C3F-40BC-8A25-6CE5D0E5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103A5-163B-412B-9AAD-99FC2D40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66F54-3F88-4E0C-A06F-5F1397B3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54AE4-E437-4E93-941B-E63E5DDD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39C54-B86D-4070-866D-67E00162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96F3C-B85E-4C3A-9D7B-CDA0B6E39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5712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63804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40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5712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63804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5537E-BE9C-43C0-B13E-1BE1B0B18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768E1-4EAB-4C15-926E-0168F5183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F9B96-0139-4024-81B4-E2DBCFE7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DE58E-D155-442F-BFCE-8166C06F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0DDE6-0511-4384-880B-DE977E6C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69BB3-17DB-4942-95A4-15F2066C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16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3D8D4-08A3-4A2F-882A-4F1CF14E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F3A2A-6862-4535-B639-F04B0C47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C83DB-BD26-4EBC-8C8E-0D3CD844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CA92C-0CE6-4D3F-B828-108FD565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5DA40-A27D-4558-857F-B771044F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B438F-49B1-4FD4-B995-C2C53136B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16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712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63804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040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712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63804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B6BB3-A0DA-4781-9B59-606047061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91BFF-BF27-40A5-BCCF-8A971F3FF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18B1C-45C8-4760-B153-DF995027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45C49-C758-4FFA-8DD2-D24A0815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2B5FC-2848-4EBA-8F13-D4288223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A9D2B-0751-450A-A2B4-617E3B83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16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5E818-CC84-457A-B64A-BA8B578C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1C5F6-93F2-4631-A8B5-4D9FCF4B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68AE5-EE69-4934-A1FE-E3D39E7D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1F178-D6A8-4DC9-A880-EFAD5FDC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636EC-323A-4FE4-815F-8020FA31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4EEE5-2038-424D-B12D-A6BB39D7F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712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63804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5040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712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63804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D3ED6-A943-4AA6-B8E9-DEBB39EB6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9DD0F-CA48-4C9F-94A8-2036E7DD6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72785-5E47-4D11-B0F1-B42BBAB0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08480-1FF0-40C9-8145-E9081A5B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A1D97-9186-4C5A-9416-ADEE493A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555FD-299D-4A95-97E4-942B15CB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16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BE88A-1E4A-4A86-B64C-94D12D67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61668-88E1-48CC-9B20-41272D00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9B89A-2C33-4B4F-9B7B-70F87794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71674-9E33-4D96-89AD-4B3B0AE5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F3BE9-95BA-4302-81DC-6A4A0FB6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B08C1-3734-43B1-A992-AE19426F7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5712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63804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040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5712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63804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C5618-B7BF-4B2A-BC23-E9C0913FB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504720" y="6886440"/>
            <a:ext cx="233856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878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00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C00A3C0-A2C6-4D7F-A6C3-2CB61AF8056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dt" idx="4"/>
          </p:nvPr>
        </p:nvSpPr>
        <p:spPr>
          <a:xfrm>
            <a:off x="504720" y="6886440"/>
            <a:ext cx="233856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5"/>
          </p:nvPr>
        </p:nvSpPr>
        <p:spPr>
          <a:xfrm>
            <a:off x="3447720" y="6886440"/>
            <a:ext cx="31878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00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0425E2B-49E3-4A8F-B60F-D88F46BB565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dt" idx="7"/>
          </p:nvPr>
        </p:nvSpPr>
        <p:spPr>
          <a:xfrm>
            <a:off x="504720" y="6886440"/>
            <a:ext cx="233856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8"/>
          </p:nvPr>
        </p:nvSpPr>
        <p:spPr>
          <a:xfrm>
            <a:off x="3447720" y="6886440"/>
            <a:ext cx="31878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9"/>
          </p:nvPr>
        </p:nvSpPr>
        <p:spPr>
          <a:xfrm>
            <a:off x="7227720" y="6886440"/>
            <a:ext cx="23400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9B941B2-B529-4A72-A7AC-FBE813D2F8C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dt" idx="10"/>
          </p:nvPr>
        </p:nvSpPr>
        <p:spPr>
          <a:xfrm>
            <a:off x="504720" y="6886440"/>
            <a:ext cx="233856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ftr" idx="11"/>
          </p:nvPr>
        </p:nvSpPr>
        <p:spPr>
          <a:xfrm>
            <a:off x="3447720" y="6886440"/>
            <a:ext cx="31878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Num" idx="12"/>
          </p:nvPr>
        </p:nvSpPr>
        <p:spPr>
          <a:xfrm>
            <a:off x="7227720" y="6886440"/>
            <a:ext cx="23400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9C9E82A-5765-41B9-82EE-B92998407EC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dt" idx="13"/>
          </p:nvPr>
        </p:nvSpPr>
        <p:spPr>
          <a:xfrm>
            <a:off x="504720" y="6886440"/>
            <a:ext cx="233856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14"/>
          </p:nvPr>
        </p:nvSpPr>
        <p:spPr>
          <a:xfrm>
            <a:off x="3447720" y="6886440"/>
            <a:ext cx="31878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15"/>
          </p:nvPr>
        </p:nvSpPr>
        <p:spPr>
          <a:xfrm>
            <a:off x="7227720" y="6886440"/>
            <a:ext cx="23400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393B4D4-95A1-4F94-927E-A880BAF22AD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dt" idx="16"/>
          </p:nvPr>
        </p:nvSpPr>
        <p:spPr>
          <a:xfrm>
            <a:off x="504720" y="6886440"/>
            <a:ext cx="233856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ftr" idx="17"/>
          </p:nvPr>
        </p:nvSpPr>
        <p:spPr>
          <a:xfrm>
            <a:off x="3447720" y="6886440"/>
            <a:ext cx="31878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18"/>
          </p:nvPr>
        </p:nvSpPr>
        <p:spPr>
          <a:xfrm>
            <a:off x="7227720" y="6886440"/>
            <a:ext cx="23400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97EBE84-E604-461F-A369-924558A3862B}" type="slidenum">
              <a:rPr b="0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mma.gov.br/portalbio" TargetMode="External"/><Relationship Id="rId2" Type="http://schemas.openxmlformats.org/officeDocument/2006/relationships/hyperlink" Target="http://www.ibama.gov.br/csr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Retângulo 4" descr=""/>
          <p:cNvPicPr/>
          <p:nvPr/>
        </p:nvPicPr>
        <p:blipFill>
          <a:blip r:embed="rId1"/>
          <a:stretch/>
        </p:blipFill>
        <p:spPr>
          <a:xfrm>
            <a:off x="-146160" y="1255680"/>
            <a:ext cx="10576080" cy="267012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13"/>
          <p:cNvSpPr/>
          <p:nvPr/>
        </p:nvSpPr>
        <p:spPr>
          <a:xfrm>
            <a:off x="0" y="3492360"/>
            <a:ext cx="10080720" cy="1440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1"/>
          <p:cNvSpPr/>
          <p:nvPr/>
        </p:nvSpPr>
        <p:spPr>
          <a:xfrm>
            <a:off x="252360" y="5132520"/>
            <a:ext cx="94917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rasília – março de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Imagem 7" descr="logo MMA.png"/>
          <p:cNvPicPr/>
          <p:nvPr/>
        </p:nvPicPr>
        <p:blipFill>
          <a:blip r:embed="rId2"/>
          <a:stretch/>
        </p:blipFill>
        <p:spPr>
          <a:xfrm>
            <a:off x="3025800" y="6480000"/>
            <a:ext cx="3946680" cy="736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0" descr="home_pnud"/>
          <p:cNvPicPr/>
          <p:nvPr/>
        </p:nvPicPr>
        <p:blipFill>
          <a:blip r:embed="rId3"/>
          <a:stretch/>
        </p:blipFill>
        <p:spPr>
          <a:xfrm>
            <a:off x="8969400" y="5724360"/>
            <a:ext cx="752400" cy="15242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1" descr="5243-ibama"/>
          <p:cNvPicPr/>
          <p:nvPr/>
        </p:nvPicPr>
        <p:blipFill>
          <a:blip r:embed="rId4"/>
          <a:stretch/>
        </p:blipFill>
        <p:spPr>
          <a:xfrm>
            <a:off x="1657440" y="6006960"/>
            <a:ext cx="1224000" cy="1198800"/>
          </a:xfrm>
          <a:prstGeom prst="rect">
            <a:avLst/>
          </a:prstGeom>
          <a:ln w="0">
            <a:noFill/>
          </a:ln>
        </p:spPr>
      </p:pic>
      <p:sp>
        <p:nvSpPr>
          <p:cNvPr id="287" name="WordArt 12"/>
          <p:cNvSpPr txBox="1"/>
          <p:nvPr/>
        </p:nvSpPr>
        <p:spPr>
          <a:xfrm>
            <a:off x="1079640" y="3851280"/>
            <a:ext cx="8280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ffff">
                    <a:alpha val="47000"/>
                  </a:srgbClr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rial Black"/>
              </a:rPr>
              <a:t>Biomas Cerrado/ Caatinga/Pantanal/ Pampa e Mata Atlântica</a:t>
            </a:r>
            <a:endParaRPr b="0" lang="en-US" sz="4000" spc="1" strike="noStrike">
              <a:ln w="0">
                <a:noFill/>
              </a:ln>
              <a:solidFill>
                <a:srgbClr val="ffffff">
                  <a:alpha val="47000"/>
                </a:srgbClr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6985080" y="6475320"/>
            <a:ext cx="165564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cretaria de Biodiversidade e Flores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10" descr="CSR"/>
          <p:cNvPicPr/>
          <p:nvPr/>
        </p:nvPicPr>
        <p:blipFill>
          <a:blip r:embed="rId5"/>
          <a:stretch/>
        </p:blipFill>
        <p:spPr>
          <a:xfrm>
            <a:off x="144360" y="6224760"/>
            <a:ext cx="1386000" cy="79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"/>
          <p:cNvGraphicFramePr/>
          <p:nvPr/>
        </p:nvGraphicFramePr>
        <p:xfrm>
          <a:off x="431640" y="2987640"/>
          <a:ext cx="9288720" cy="2389320"/>
        </p:xfrm>
        <a:graphic>
          <a:graphicData uri="http://schemas.openxmlformats.org/drawingml/2006/table">
            <a:tbl>
              <a:tblPr/>
              <a:tblGrid>
                <a:gridCol w="4896000"/>
                <a:gridCol w="2305080"/>
                <a:gridCol w="2087640"/>
              </a:tblGrid>
              <a:tr h="546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ffffff"/>
                          </a:solidFill>
                          <a:latin typeface="Futura BdCn BT"/>
                        </a:rPr>
                        <a:t>Até 2002 (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ffffff"/>
                          </a:solidFill>
                          <a:latin typeface="Futura BdCn BT"/>
                        </a:rPr>
                        <a:t>Até 2008 (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61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Áreas desmatad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43,3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45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01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Vegetação remanesce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55,6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53,6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79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Corpos d’águ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0,9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0,9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322" name="Text Box 4"/>
          <p:cNvSpPr/>
          <p:nvPr/>
        </p:nvSpPr>
        <p:spPr>
          <a:xfrm>
            <a:off x="574560" y="351000"/>
            <a:ext cx="929016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Futura BdCn BT"/>
              </a:rPr>
              <a:t>Desmatamento acumulado no bioma Caatinga, tendo como referência a área total do bioma mapeado (826.411,23 km²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CaixaDeTexto 4"/>
          <p:cNvSpPr/>
          <p:nvPr/>
        </p:nvSpPr>
        <p:spPr>
          <a:xfrm>
            <a:off x="289080" y="5769000"/>
            <a:ext cx="94312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6000"/>
              </a:lnSpc>
              <a:buClr>
                <a:srgbClr val="000000"/>
              </a:buClr>
              <a:buFont typeface="Futura BdCn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Futura BdCn BT"/>
              </a:rPr>
              <a:t>Desmatamento de 16.576 km² entre  2002 e 2008 (2,0% do bioma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buClr>
                <a:srgbClr val="000000"/>
              </a:buClr>
              <a:buFont typeface="Futura BdCn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buClr>
                <a:srgbClr val="000000"/>
              </a:buClr>
              <a:buFont typeface="Futura BdCn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Futura BdCn BT"/>
              </a:rPr>
              <a:t>Taxa anual média de desmatamento entre 2002 e 2008: 2.763 km²  (0,33%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CaixaDeTexto 5"/>
          <p:cNvSpPr/>
          <p:nvPr/>
        </p:nvSpPr>
        <p:spPr>
          <a:xfrm>
            <a:off x="1398960" y="6066000"/>
            <a:ext cx="266040" cy="3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82520" y="993600"/>
          <a:ext cx="9898200" cy="6566040"/>
        </p:xfrm>
        <a:graphic>
          <a:graphicData uri="http://schemas.openxmlformats.org/drawingml/2006/table">
            <a:tbl>
              <a:tblPr/>
              <a:tblGrid>
                <a:gridCol w="2544840"/>
                <a:gridCol w="655560"/>
                <a:gridCol w="1903320"/>
                <a:gridCol w="1905120"/>
                <a:gridCol w="2222640"/>
                <a:gridCol w="666720"/>
              </a:tblGrid>
              <a:tr h="694080">
                <a:tc>
                  <a:txBody>
                    <a:bodyPr lIns="100800" rIns="100800" tIns="50400" bIns="504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o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0800" marR="1008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100800" rIns="100800" tIns="50400" bIns="504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0800" marR="1008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100800" rIns="100800" tIns="50400" bIns="504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matamento até 2002 (km</a:t>
                      </a:r>
                      <a:r>
                        <a:rPr b="1" lang="pt-BR" sz="1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0800" marR="1008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100800" rIns="100800" tIns="50400" bIns="504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errado total (km²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0800" marR="1008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100800" rIns="100800" tIns="50400" bIns="504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smatamento  2002-2008 (km²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0800" marR="1008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100800" rIns="100800" tIns="50400" bIns="504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0800" marR="1008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53960">
                <a:tc>
                  <a:txBody>
                    <a:bodyPr lIns="100800" rIns="100800" tIns="50400" bIns="50400" anchor="b">
                      <a:noAutofit/>
                    </a:bodyPr>
                    <a:p>
                      <a:pPr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Maranh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M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6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12.09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4.8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100800" rIns="100800" tIns="50400" bIns="50400" anchor="b">
                      <a:noAutofit/>
                    </a:bodyPr>
                    <a:p>
                      <a:pPr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Bah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B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.4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51.3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9.26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100800" rIns="100800" tIns="50400" bIns="50400" anchor="b">
                      <a:noAutofit/>
                    </a:bodyPr>
                    <a:p>
                      <a:pPr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o Gross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4.1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58.83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7.5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100800" rIns="100800" tIns="50400" bIns="50400" anchor="b">
                      <a:noAutofit/>
                    </a:bodyPr>
                    <a:p>
                      <a:pPr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as Gera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M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.4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33.7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.9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100800" rIns="100800" tIns="50400" bIns="50400" anchor="b">
                      <a:noAutofit/>
                    </a:bodyPr>
                    <a:p>
                      <a:pPr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Piauí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P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47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93.4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.2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100800" rIns="100800" tIns="50400" bIns="50400" anchor="b">
                      <a:noAutofit/>
                    </a:bodyPr>
                    <a:p>
                      <a:pPr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Tocanti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.9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52.7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.1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100800" rIns="100800" tIns="50400" bIns="50400" anchor="b">
                      <a:noAutofit/>
                    </a:bodyPr>
                    <a:p>
                      <a:pPr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Mato Grosso do Su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M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.5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16.0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.1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100800" rIns="100800" tIns="50400" bIns="50400" anchor="b">
                      <a:noAutofit/>
                    </a:bodyPr>
                    <a:p>
                      <a:pPr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Goiá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G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3.7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29.59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9.8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100800" rIns="100800" tIns="50400" bIns="50400" anchor="b">
                      <a:noAutofit/>
                    </a:bodyPr>
                    <a:p>
                      <a:pPr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Paraná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P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.7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00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100800" rIns="100800" tIns="50400" bIns="50400" anchor="b">
                      <a:noAutofit/>
                    </a:bodyPr>
                    <a:p>
                      <a:pPr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Rondôn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R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100800" rIns="100800" tIns="50400" bIns="50400" anchor="b">
                      <a:noAutofit/>
                    </a:bodyPr>
                    <a:p>
                      <a:pPr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São Paul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S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.1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1.13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9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100800" rIns="100800" tIns="50400" bIns="50400" anchor="b">
                      <a:noAutofit/>
                    </a:bodyPr>
                    <a:p>
                      <a:pPr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Distrito Feder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D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.8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100800" rIns="100800" tIns="50400" bIns="50400" anchor="b">
                      <a:noAutofit/>
                    </a:bodyPr>
                    <a:p>
                      <a:pPr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5.0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100800" marR="1008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6" name="Text Box 109"/>
          <p:cNvSpPr/>
          <p:nvPr/>
        </p:nvSpPr>
        <p:spPr>
          <a:xfrm>
            <a:off x="911160" y="208080"/>
            <a:ext cx="8701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utura BdCn BT"/>
              </a:rPr>
              <a:t>Desmatamento do Bioma Cerrado por Unidade da Federaçã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4"/>
          <p:cNvSpPr/>
          <p:nvPr/>
        </p:nvSpPr>
        <p:spPr>
          <a:xfrm>
            <a:off x="0" y="179280"/>
            <a:ext cx="10080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Futura BdCn BT"/>
              </a:rPr>
              <a:t>Desmatamento do Bioma Caatinga por Unidade da Federa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431640" y="1547640"/>
          <a:ext cx="9183960" cy="5124600"/>
        </p:xfrm>
        <a:graphic>
          <a:graphicData uri="http://schemas.openxmlformats.org/drawingml/2006/table">
            <a:tbl>
              <a:tblPr/>
              <a:tblGrid>
                <a:gridCol w="1138320"/>
                <a:gridCol w="1871640"/>
                <a:gridCol w="1871640"/>
                <a:gridCol w="2343240"/>
                <a:gridCol w="1959120"/>
              </a:tblGrid>
              <a:tr h="107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Futura BdCn BT"/>
                          <a:ea typeface="Times New Roman"/>
                        </a:rPr>
                        <a:t>U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Futura BdCn BT"/>
                          <a:ea typeface="Times New Roman"/>
                        </a:rPr>
                        <a:t>ÁREA DE  CAATINGA (KM²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Futura BdCn BT"/>
                          <a:ea typeface="Times New Roman"/>
                        </a:rPr>
                        <a:t>ÁREA DESMATADA ANTES DE 2002 (KM²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Futura BdCn BT"/>
                          <a:ea typeface="Times New Roman"/>
                        </a:rPr>
                        <a:t>ÁREA DESMATADA ENTRE 2002 E 2008 (KM²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Futura BdCn BT"/>
                          <a:ea typeface="Times New Roman"/>
                        </a:rPr>
                        <a:t>% DO BIOMA DESMATADO ENTRE 2002 E 20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Futura BdCn BT"/>
                          <a:ea typeface="Times New Roman"/>
                        </a:rPr>
                        <a:t>B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Futura BdCn BT"/>
                          <a:ea typeface="Times New Roman"/>
                        </a:rPr>
                        <a:t>300.9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Futura BdCn BT"/>
                          <a:ea typeface="Times New Roman"/>
                        </a:rPr>
                        <a:t>149.6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Futura BdCn BT"/>
                          <a:ea typeface="Times New Roman"/>
                        </a:rPr>
                        <a:t>4.5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Futura BdCn BT"/>
                          <a:ea typeface="Times New Roman"/>
                        </a:rPr>
                        <a:t>0,5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Futura BdCn BT"/>
                          <a:ea typeface="Times New Roman"/>
                        </a:rPr>
                        <a:t>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Futura BdCn BT"/>
                          <a:ea typeface="Times New Roman"/>
                        </a:rPr>
                        <a:t>147.67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Futura BdCn BT"/>
                          <a:ea typeface="Times New Roman"/>
                        </a:rPr>
                        <a:t>54.7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Futura BdCn BT"/>
                          <a:ea typeface="Times New Roman"/>
                        </a:rPr>
                        <a:t>4.1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Futura BdCn BT"/>
                          <a:ea typeface="Times New Roman"/>
                        </a:rPr>
                        <a:t>0,5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8"/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Futura BdCn BT"/>
                          <a:ea typeface="Times New Roman"/>
                        </a:rPr>
                        <a:t>P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Futura BdCn BT"/>
                          <a:ea typeface="Times New Roman"/>
                        </a:rPr>
                        <a:t>157.9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Futura BdCn BT"/>
                          <a:ea typeface="Times New Roman"/>
                        </a:rPr>
                        <a:t>45.7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Futura BdCn BT"/>
                          <a:ea typeface="Times New Roman"/>
                        </a:rPr>
                        <a:t>2.58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Futura BdCn BT"/>
                          <a:ea typeface="Times New Roman"/>
                        </a:rPr>
                        <a:t>0,3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Futura BdCn BT"/>
                          <a:ea typeface="Times New Roman"/>
                        </a:rPr>
                        <a:t>P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Futura BdCn BT"/>
                          <a:ea typeface="Times New Roman"/>
                        </a:rPr>
                        <a:t>81.14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Futura BdCn BT"/>
                          <a:ea typeface="Times New Roman"/>
                        </a:rPr>
                        <a:t>41.1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Futura BdCn BT"/>
                          <a:ea typeface="Times New Roman"/>
                        </a:rPr>
                        <a:t>2.2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Futura BdCn BT"/>
                          <a:ea typeface="Times New Roman"/>
                        </a:rPr>
                        <a:t>0,2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8"/>
                    </a:solidFill>
                  </a:tcPr>
                </a:tc>
              </a:tr>
              <a:tr h="35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Futura BdCn BT"/>
                          <a:ea typeface="Times New Roman"/>
                        </a:rPr>
                        <a:t>R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Futura BdCn BT"/>
                          <a:ea typeface="Times New Roman"/>
                        </a:rPr>
                        <a:t>49.4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Futura BdCn BT"/>
                          <a:ea typeface="Times New Roman"/>
                        </a:rPr>
                        <a:t>21.4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Futura BdCn BT"/>
                          <a:ea typeface="Times New Roman"/>
                        </a:rPr>
                        <a:t>1.1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Futura BdCn BT"/>
                          <a:ea typeface="Times New Roman"/>
                        </a:rPr>
                        <a:t>0,1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Futura BdCn BT"/>
                          <a:ea typeface="Times New Roman"/>
                        </a:rPr>
                        <a:t>P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Futura BdCn BT"/>
                          <a:ea typeface="Times New Roman"/>
                        </a:rPr>
                        <a:t>51.35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Futura BdCn BT"/>
                          <a:ea typeface="Times New Roman"/>
                        </a:rPr>
                        <a:t>22.3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Futura BdCn BT"/>
                          <a:ea typeface="Times New Roman"/>
                        </a:rPr>
                        <a:t>1.0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Futura BdCn BT"/>
                          <a:ea typeface="Times New Roman"/>
                        </a:rPr>
                        <a:t>0,1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8"/>
                    </a:solidFill>
                  </a:tcPr>
                </a:tc>
              </a:tr>
              <a:tr h="35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Futura BdCn BT"/>
                          <a:ea typeface="Times New Roman"/>
                        </a:rPr>
                        <a:t>M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Futura BdCn BT"/>
                          <a:ea typeface="Times New Roman"/>
                        </a:rPr>
                        <a:t>11.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Futura BdCn BT"/>
                          <a:ea typeface="Times New Roman"/>
                        </a:rPr>
                        <a:t>5.37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Futura BdCn BT"/>
                          <a:ea typeface="Times New Roman"/>
                        </a:rPr>
                        <a:t>3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Futura BdCn BT"/>
                          <a:ea typeface="Times New Roman"/>
                        </a:rPr>
                        <a:t>0,0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Futura BdCn BT"/>
                          <a:ea typeface="Times New Roman"/>
                        </a:rPr>
                        <a:t>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Futura BdCn BT"/>
                          <a:ea typeface="Times New Roman"/>
                        </a:rPr>
                        <a:t>13.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Futura BdCn BT"/>
                          <a:ea typeface="Times New Roman"/>
                        </a:rPr>
                        <a:t>10.3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Futura BdCn BT"/>
                          <a:ea typeface="Times New Roman"/>
                        </a:rPr>
                        <a:t>3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Futura BdCn BT"/>
                          <a:ea typeface="Times New Roman"/>
                        </a:rPr>
                        <a:t>0,0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8"/>
                    </a:solidFill>
                  </a:tcPr>
                </a:tc>
              </a:tr>
              <a:tr h="35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Futura BdCn BT"/>
                          <a:ea typeface="Times New Roman"/>
                        </a:rPr>
                        <a:t>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Futura BdCn BT"/>
                          <a:ea typeface="Times New Roman"/>
                        </a:rPr>
                        <a:t>10.0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Futura BdCn BT"/>
                          <a:ea typeface="Times New Roman"/>
                        </a:rPr>
                        <a:t>6.68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Futura BdCn BT"/>
                          <a:ea typeface="Times New Roman"/>
                        </a:rPr>
                        <a:t>15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Futura BdCn BT"/>
                          <a:ea typeface="Times New Roman"/>
                        </a:rPr>
                        <a:t>0,0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Futura BdCn BT"/>
                          <a:ea typeface="Times New Roman"/>
                        </a:rPr>
                        <a:t>M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Futura BdCn BT"/>
                          <a:ea typeface="Times New Roman"/>
                        </a:rPr>
                        <a:t>3.7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Futura BdCn BT"/>
                          <a:ea typeface="Times New Roman"/>
                        </a:rPr>
                        <a:t>1.1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Futura BdCn BT"/>
                          <a:ea typeface="Times New Roman"/>
                        </a:rPr>
                        <a:t>9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Futura BdCn BT"/>
                          <a:ea typeface="Times New Roman"/>
                        </a:rPr>
                        <a:t>0,0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8"/>
                    </a:solidFill>
                  </a:tcPr>
                </a:tc>
              </a:tr>
              <a:tr h="184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Futura BdCn BT"/>
                          <a:ea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Futura BdCn BT"/>
                          <a:ea typeface="Times New Roman"/>
                        </a:rPr>
                        <a:t>826.4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Futura BdCn BT"/>
                          <a:ea typeface="Times New Roman"/>
                        </a:rPr>
                        <a:t>358.5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Futura BdCn BT"/>
                          <a:ea typeface="Times New Roman"/>
                        </a:rPr>
                        <a:t>16.57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Futura BdCn BT"/>
                          <a:ea typeface="Times New Roman"/>
                        </a:rPr>
                        <a:t>2,0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9" descr=""/>
          <p:cNvPicPr/>
          <p:nvPr/>
        </p:nvPicPr>
        <p:blipFill>
          <a:blip r:embed="rId1"/>
          <a:stretch/>
        </p:blipFill>
        <p:spPr>
          <a:xfrm>
            <a:off x="3887640" y="900000"/>
            <a:ext cx="4913640" cy="597564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2"/>
          <p:cNvSpPr/>
          <p:nvPr/>
        </p:nvSpPr>
        <p:spPr>
          <a:xfrm>
            <a:off x="0" y="0"/>
            <a:ext cx="100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396720" y="786960"/>
            <a:ext cx="942984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utura BdCn BT"/>
              </a:rPr>
              <a:t>Distribuição dos municípi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utura BdCn BT"/>
              </a:rPr>
              <a:t>que mais desmataram ent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utura BdCn BT"/>
              </a:rPr>
              <a:t>2002 e 200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503280" y="2195640"/>
          <a:ext cx="2521080" cy="4838400"/>
        </p:xfrm>
        <a:graphic>
          <a:graphicData uri="http://schemas.openxmlformats.org/drawingml/2006/table">
            <a:tbl>
              <a:tblPr/>
              <a:tblGrid>
                <a:gridCol w="360360"/>
                <a:gridCol w="2160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-Bold"/>
                        </a:rPr>
                        <a:t>Nom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Formosa do Rio Pret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São Desidéri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Correntin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Paranating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Barra do Cord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Balsa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Brasnor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Nova Ubiratã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Jaborand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Sapez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Baixa Grande do Ri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Nova Mutu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São José do Rio Clar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Barreira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Graja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Uruçuí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Riachão das Nev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Santa Rita do Trivelat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Crixá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João Pinheir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99" descr="mapa_desmate_absoluto_caatinga_04"/>
          <p:cNvPicPr/>
          <p:nvPr/>
        </p:nvPicPr>
        <p:blipFill>
          <a:blip r:embed="rId1"/>
          <a:stretch/>
        </p:blipFill>
        <p:spPr>
          <a:xfrm>
            <a:off x="0" y="971640"/>
            <a:ext cx="8550360" cy="604980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2"/>
          <p:cNvSpPr/>
          <p:nvPr/>
        </p:nvSpPr>
        <p:spPr>
          <a:xfrm>
            <a:off x="0" y="0"/>
            <a:ext cx="10080720" cy="6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6335640" y="1476360"/>
          <a:ext cx="3456000" cy="4967280"/>
        </p:xfrm>
        <a:graphic>
          <a:graphicData uri="http://schemas.openxmlformats.org/drawingml/2006/table">
            <a:tbl>
              <a:tblPr/>
              <a:tblGrid>
                <a:gridCol w="360360"/>
                <a:gridCol w="2305080"/>
                <a:gridCol w="790560"/>
              </a:tblGrid>
              <a:tr h="316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Futura BdCn BT"/>
                          <a:ea typeface="Times New Roman"/>
                        </a:rPr>
                        <a:t>MUNICÍPI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Futura BdCn BT"/>
                          <a:ea typeface="Times New Roman"/>
                        </a:rPr>
                        <a:t>UF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3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Acopiar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Tauá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3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Bom Jesus da Lap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B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Campo Formos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B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3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Boa Viage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Tucan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B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3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Mucugê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B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Serra Talhad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3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Crateú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São José do Belmon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3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Morro do Chapéu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B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Casa Nov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B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3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Santa Quitér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Petrolin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3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Barr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Mossor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R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3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1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Saboeir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Tour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R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3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Euclides da Cunh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B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Pedr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336" name="Rectangle 2"/>
          <p:cNvSpPr/>
          <p:nvPr/>
        </p:nvSpPr>
        <p:spPr>
          <a:xfrm>
            <a:off x="27000" y="141120"/>
            <a:ext cx="1825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3"/>
          <p:cNvSpPr/>
          <p:nvPr/>
        </p:nvSpPr>
        <p:spPr>
          <a:xfrm>
            <a:off x="360360" y="110880"/>
            <a:ext cx="93837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utura BdCn BT"/>
                <a:ea typeface="Arial"/>
              </a:rPr>
              <a:t>20 Municípios que mais desmataram entre 2002 e 2008 </a:t>
            </a:r>
            <a:r>
              <a:rPr b="0" lang="pt-BR" sz="2800" spc="-1" strike="noStrike">
                <a:solidFill>
                  <a:srgbClr val="000000"/>
                </a:solidFill>
                <a:latin typeface="Futura BdCn BT"/>
              </a:rPr>
              <a:t>segundo desmatamento absolu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100" descr="20+DESMATE_ABS_SN"/>
          <p:cNvPicPr/>
          <p:nvPr/>
        </p:nvPicPr>
        <p:blipFill>
          <a:blip r:embed="rId2"/>
          <a:srcRect l="69535" t="30915" r="775" b="0"/>
          <a:stretch/>
        </p:blipFill>
        <p:spPr>
          <a:xfrm>
            <a:off x="4375080" y="4500720"/>
            <a:ext cx="179064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CaixaDeTexto 2"/>
          <p:cNvSpPr/>
          <p:nvPr/>
        </p:nvSpPr>
        <p:spPr>
          <a:xfrm>
            <a:off x="825480" y="422280"/>
            <a:ext cx="8715240" cy="17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utura BdCn BT"/>
              </a:rPr>
              <a:t>Cálculo das emissões de CO2 associadas ao desmatamento no bioma Cerrado no período 2002-2008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CaixaDeTexto 3"/>
          <p:cNvSpPr/>
          <p:nvPr/>
        </p:nvSpPr>
        <p:spPr>
          <a:xfrm>
            <a:off x="968400" y="2779560"/>
            <a:ext cx="8215200" cy="33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dCn BT"/>
              </a:rPr>
              <a:t>Desmatamento médio anual em 2002-2008 – 14.200 km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dCn BT"/>
              </a:rPr>
              <a:t>Quantidade média de Carbono no Cerrado –      45 toneladas/hect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dCn BT"/>
              </a:rPr>
              <a:t>Emissão média anual de CO2 em 2002-2008 – 232 milhões tonelad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CaixaDeTexto 2"/>
          <p:cNvSpPr/>
          <p:nvPr/>
        </p:nvSpPr>
        <p:spPr>
          <a:xfrm>
            <a:off x="287280" y="422280"/>
            <a:ext cx="9253440" cy="28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utura BdCn BT"/>
              </a:rPr>
              <a:t>Cálculo das emissões de CO</a:t>
            </a:r>
            <a:r>
              <a:rPr b="0" lang="en-US" sz="4000" spc="-1" strike="noStrike" baseline="30000">
                <a:solidFill>
                  <a:srgbClr val="000000"/>
                </a:solidFill>
                <a:latin typeface="Futura BdCn BT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Futura BdCn BT"/>
              </a:rPr>
              <a:t> associadas ao desmatamento no bioma Caatinga no período 2002-2008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CaixaDeTexto 3"/>
          <p:cNvSpPr/>
          <p:nvPr/>
        </p:nvSpPr>
        <p:spPr>
          <a:xfrm>
            <a:off x="576360" y="2556000"/>
            <a:ext cx="8569080" cy="50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76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 BdCn BT"/>
              </a:rPr>
              <a:t>Desmatamento médio anual em 2002-2008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Futura BdCn BT"/>
              </a:rPr>
              <a:t>2.763 km²</a:t>
            </a:r>
            <a:r>
              <a:rPr b="0" lang="pt-BR" sz="3000" spc="-1" strike="noStrike">
                <a:solidFill>
                  <a:srgbClr val="000000"/>
                </a:solidFill>
                <a:latin typeface="Futura BdCn BT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76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76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 BdCn BT"/>
              </a:rPr>
              <a:t>Quantidade média de Carbono na Caatinga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Futura BdCn BT"/>
              </a:rPr>
              <a:t>25 toneladas/hectare</a:t>
            </a:r>
            <a:r>
              <a:rPr b="0" lang="en-US" sz="3000" spc="-1" strike="noStrike">
                <a:solidFill>
                  <a:srgbClr val="000000"/>
                </a:solidFill>
                <a:latin typeface="Futura BdCn BT"/>
              </a:rPr>
              <a:t> (relatório MCT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76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 BdCn BT"/>
              </a:rPr>
              <a:t>Emissão média anual de CO</a:t>
            </a:r>
            <a:r>
              <a:rPr b="0" lang="en-US" sz="3000" spc="-1" strike="noStrike" baseline="30000">
                <a:solidFill>
                  <a:srgbClr val="000000"/>
                </a:solidFill>
                <a:latin typeface="Futura BdCn BT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Futura BdCn BT"/>
              </a:rPr>
              <a:t> em 2002-2008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Futura BdCn BT"/>
              </a:rPr>
              <a:t>25 milhões de toneladas</a:t>
            </a:r>
            <a:r>
              <a:rPr b="0" lang="en-US" sz="2300" spc="-1" strike="noStrike">
                <a:solidFill>
                  <a:srgbClr val="000000"/>
                </a:solidFill>
                <a:latin typeface="Futura BdCn BT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4627440" y="3606840"/>
          <a:ext cx="825480" cy="299880"/>
        </p:xfrm>
        <a:graphic>
          <a:graphicData uri="http://schemas.openxmlformats.org/drawingml/2006/table">
            <a:tbl>
              <a:tblPr/>
              <a:tblGrid>
                <a:gridCol w="82548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"/>
          <p:cNvSpPr/>
          <p:nvPr/>
        </p:nvSpPr>
        <p:spPr>
          <a:xfrm>
            <a:off x="936720" y="1636560"/>
            <a:ext cx="7775640" cy="44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Futura BdCn BT"/>
              </a:rPr>
              <a:t>Portais de acesso aos dado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100" spc="-1" strike="noStrike" u="sng">
                <a:solidFill>
                  <a:srgbClr val="ccccff"/>
                </a:solidFill>
                <a:uFillTx/>
                <a:latin typeface="Futura BdCn BT"/>
                <a:hlinkClick r:id="rId1"/>
              </a:rPr>
              <a:t>http://www.mma.gov.br/portalbio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100" spc="-1" strike="noStrike" u="sng">
                <a:solidFill>
                  <a:srgbClr val="ccccff"/>
                </a:solidFill>
                <a:uFillTx/>
                <a:latin typeface="Futura BdCn BT"/>
                <a:hlinkClick r:id="rId2"/>
              </a:rPr>
              <a:t>http://www.ibama.gov.br/cs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utura BdCn BT"/>
              </a:rPr>
              <a:t>Obrigada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utura BdCn BT"/>
              </a:rPr>
              <a:t>Cláudia Schafhauser  MMA/SBF/DCB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utura BdCn BT"/>
              </a:rPr>
              <a:t>Contato: 2028-20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Imagem 7" descr="logo MMA.png"/>
          <p:cNvPicPr/>
          <p:nvPr/>
        </p:nvPicPr>
        <p:blipFill>
          <a:blip r:embed="rId3"/>
          <a:stretch/>
        </p:blipFill>
        <p:spPr>
          <a:xfrm>
            <a:off x="3025800" y="6480000"/>
            <a:ext cx="3946680" cy="7369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1" descr="home_pnud"/>
          <p:cNvPicPr/>
          <p:nvPr/>
        </p:nvPicPr>
        <p:blipFill>
          <a:blip r:embed="rId4"/>
          <a:stretch/>
        </p:blipFill>
        <p:spPr>
          <a:xfrm>
            <a:off x="8969400" y="5724360"/>
            <a:ext cx="752400" cy="15242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2" descr="5243-ibama"/>
          <p:cNvPicPr/>
          <p:nvPr/>
        </p:nvPicPr>
        <p:blipFill>
          <a:blip r:embed="rId5"/>
          <a:stretch/>
        </p:blipFill>
        <p:spPr>
          <a:xfrm>
            <a:off x="1657440" y="6006960"/>
            <a:ext cx="1224000" cy="119880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9"/>
          <p:cNvSpPr/>
          <p:nvPr/>
        </p:nvSpPr>
        <p:spPr>
          <a:xfrm>
            <a:off x="6985080" y="6475320"/>
            <a:ext cx="165564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cretaria de Biodiversidade e Flores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10" descr="CSR"/>
          <p:cNvPicPr/>
          <p:nvPr/>
        </p:nvPicPr>
        <p:blipFill>
          <a:blip r:embed="rId6"/>
          <a:stretch/>
        </p:blipFill>
        <p:spPr>
          <a:xfrm>
            <a:off x="144360" y="6224760"/>
            <a:ext cx="1386000" cy="79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http://www.ibge.gov.br/home/presidencia/noticias/images/169_230_463146.gif"/>
          <p:cNvPicPr/>
          <p:nvPr/>
        </p:nvPicPr>
        <p:blipFill>
          <a:blip r:embed="rId1"/>
          <a:stretch/>
        </p:blipFill>
        <p:spPr>
          <a:xfrm>
            <a:off x="2325600" y="1994040"/>
            <a:ext cx="4608720" cy="4451040"/>
          </a:xfrm>
          <a:prstGeom prst="rect">
            <a:avLst/>
          </a:prstGeom>
          <a:ln w="0">
            <a:noFill/>
          </a:ln>
        </p:spPr>
      </p:pic>
      <p:sp>
        <p:nvSpPr>
          <p:cNvPr id="291" name="CaixaDeTexto 2"/>
          <p:cNvSpPr/>
          <p:nvPr/>
        </p:nvSpPr>
        <p:spPr>
          <a:xfrm>
            <a:off x="0" y="565200"/>
            <a:ext cx="100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Biomas Brasileiros segundo recorte do IB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CaixaDeTexto 1"/>
          <p:cNvSpPr/>
          <p:nvPr/>
        </p:nvSpPr>
        <p:spPr>
          <a:xfrm>
            <a:off x="325440" y="1351080"/>
            <a:ext cx="957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PROD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 1988 A 2002: PRODES ANALÓG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VULGAÇÃO DA TAXA  ANUAL DO DESMATAMENTO E A EXTENSÃO DO DESMATAMENTO BRU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PARTIR DE 2003: PRODES DIG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VULGAÇÃO NA INTERNET DO BANCO DE DADOS DIG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MAGENS, MAPA DE DESMATAMENTO E ESTATÍST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4720" y="208080"/>
            <a:ext cx="90648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Futura BdCn BT"/>
              </a:rPr>
              <a:t>Monitoramento dos Biomas Extra Amazôn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6000" y="1279080"/>
            <a:ext cx="9647280" cy="61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5520" indent="0" algn="just">
              <a:lnSpc>
                <a:spcPct val="85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Técnicos contratados pelo PNUD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 algn="just">
              <a:lnSpc>
                <a:spcPct val="85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22 especialistas em geoprocessament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 algn="just">
              <a:lnSpc>
                <a:spcPct val="85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03 especialistas em tecnologia da informaçã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 algn="just">
              <a:lnSpc>
                <a:spcPct val="85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Analistas do MMA e IBAM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5520" indent="0" algn="just">
              <a:lnSpc>
                <a:spcPct val="85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Objetivo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 algn="just">
              <a:lnSpc>
                <a:spcPct val="85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mapeamento dos 5 biomas em 1 ano (Cerrado, Caatinga, Pantanal, Pampa e Mata Atlântica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5520" indent="0" algn="just">
              <a:lnSpc>
                <a:spcPct val="85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Referência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 algn="just">
              <a:lnSpc>
                <a:spcPct val="85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Mapa de Cobertura Vegetal do MMA/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PROBIO 2002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como 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eferênci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 algn="just">
              <a:lnSpc>
                <a:spcPct val="85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Interpretação visual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5520" indent="0" algn="just">
              <a:lnSpc>
                <a:spcPct val="85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identificação de mudanças no interior dos remanescentes com imagens (CBERS e Landsat) de 2002 e 2008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 algn="just">
              <a:lnSpc>
                <a:spcPct val="85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Realização de um fórum técnico científico para discussão do dados finais com especialistas em mapeamento de cada biom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"/>
          <p:cNvSpPr/>
          <p:nvPr/>
        </p:nvSpPr>
        <p:spPr>
          <a:xfrm>
            <a:off x="536400" y="0"/>
            <a:ext cx="90759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Futura BdCn BT"/>
              </a:rPr>
              <a:t>Metodolog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111240" y="5073480"/>
            <a:ext cx="264312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BdCn BT"/>
              </a:rPr>
              <a:t>Monitoramento realizado com base no Mapeamento da Cobertura  Vegetal dos Biomas Brasileiros -  PROBIO/MMA 200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Line 12"/>
          <p:cNvSpPr/>
          <p:nvPr/>
        </p:nvSpPr>
        <p:spPr>
          <a:xfrm flipV="1">
            <a:off x="4248000" y="5435280"/>
            <a:ext cx="0" cy="1081080"/>
          </a:xfrm>
          <a:prstGeom prst="line">
            <a:avLst/>
          </a:prstGeom>
          <a:ln w="367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Line 11"/>
          <p:cNvSpPr/>
          <p:nvPr/>
        </p:nvSpPr>
        <p:spPr>
          <a:xfrm flipH="1">
            <a:off x="6552720" y="3780000"/>
            <a:ext cx="1366920" cy="360360"/>
          </a:xfrm>
          <a:prstGeom prst="line">
            <a:avLst/>
          </a:prstGeom>
          <a:ln w="367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Line 12"/>
          <p:cNvSpPr/>
          <p:nvPr/>
        </p:nvSpPr>
        <p:spPr>
          <a:xfrm flipH="1" flipV="1">
            <a:off x="5616720" y="5435280"/>
            <a:ext cx="1008000" cy="865080"/>
          </a:xfrm>
          <a:prstGeom prst="line">
            <a:avLst/>
          </a:prstGeom>
          <a:ln w="367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17" descr="bioma_grade_caatinga_fig"/>
          <p:cNvPicPr/>
          <p:nvPr/>
        </p:nvPicPr>
        <p:blipFill>
          <a:blip r:embed="rId1"/>
          <a:stretch/>
        </p:blipFill>
        <p:spPr>
          <a:xfrm>
            <a:off x="287280" y="1187280"/>
            <a:ext cx="2011320" cy="28432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8" descr="antrop_reman_agua_caatinga_fig_2"/>
          <p:cNvPicPr/>
          <p:nvPr/>
        </p:nvPicPr>
        <p:blipFill>
          <a:blip r:embed="rId2"/>
          <a:stretch/>
        </p:blipFill>
        <p:spPr>
          <a:xfrm>
            <a:off x="3168720" y="2916360"/>
            <a:ext cx="6048360" cy="4278240"/>
          </a:xfrm>
          <a:prstGeom prst="rect">
            <a:avLst/>
          </a:prstGeom>
          <a:ln w="0">
            <a:noFill/>
          </a:ln>
        </p:spPr>
      </p:pic>
      <p:sp>
        <p:nvSpPr>
          <p:cNvPr id="302" name="Line 8"/>
          <p:cNvSpPr/>
          <p:nvPr/>
        </p:nvSpPr>
        <p:spPr>
          <a:xfrm>
            <a:off x="1415880" y="1503360"/>
            <a:ext cx="2232360" cy="1727280"/>
          </a:xfrm>
          <a:prstGeom prst="line">
            <a:avLst/>
          </a:prstGeom>
          <a:ln w="208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20"/>
          <p:cNvSpPr/>
          <p:nvPr/>
        </p:nvSpPr>
        <p:spPr>
          <a:xfrm>
            <a:off x="1127160" y="1322280"/>
            <a:ext cx="287280" cy="176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3"/>
          <p:cNvSpPr/>
          <p:nvPr/>
        </p:nvSpPr>
        <p:spPr>
          <a:xfrm>
            <a:off x="396720" y="0"/>
            <a:ext cx="9501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Futura BdCn BT"/>
              </a:rPr>
              <a:t>Identificação visual de mudanças na im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10" descr="ident_visual_mudanca_img"/>
          <p:cNvPicPr/>
          <p:nvPr/>
        </p:nvPicPr>
        <p:blipFill>
          <a:blip r:embed="rId1"/>
          <a:srcRect l="4708" t="5227" r="4351" b="4280"/>
          <a:stretch/>
        </p:blipFill>
        <p:spPr>
          <a:xfrm>
            <a:off x="1727280" y="1454040"/>
            <a:ext cx="8208720" cy="5781960"/>
          </a:xfrm>
          <a:prstGeom prst="rect">
            <a:avLst/>
          </a:prstGeom>
          <a:ln w="0">
            <a:noFill/>
          </a:ln>
        </p:spPr>
      </p:pic>
      <p:sp>
        <p:nvSpPr>
          <p:cNvPr id="306" name="Line 7"/>
          <p:cNvSpPr/>
          <p:nvPr/>
        </p:nvSpPr>
        <p:spPr>
          <a:xfrm flipV="1">
            <a:off x="2016000" y="3058920"/>
            <a:ext cx="6048360" cy="43308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8"/>
          <p:cNvSpPr/>
          <p:nvPr/>
        </p:nvSpPr>
        <p:spPr>
          <a:xfrm flipV="1">
            <a:off x="863640" y="5364000"/>
            <a:ext cx="1198440" cy="432000"/>
          </a:xfrm>
          <a:prstGeom prst="line">
            <a:avLst/>
          </a:prstGeom>
          <a:ln w="748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6"/>
          <p:cNvSpPr/>
          <p:nvPr/>
        </p:nvSpPr>
        <p:spPr>
          <a:xfrm>
            <a:off x="2519280" y="1692360"/>
            <a:ext cx="4103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utura BdCn BT"/>
              </a:rPr>
              <a:t>Imagem de satélite atual do ano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55440" y="2981160"/>
            <a:ext cx="2016360" cy="101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BdCn BT"/>
              </a:rPr>
              <a:t>Máscara com desmatamentos antig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9"/>
          <p:cNvSpPr/>
          <p:nvPr/>
        </p:nvSpPr>
        <p:spPr>
          <a:xfrm>
            <a:off x="98280" y="5867280"/>
            <a:ext cx="215136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BdCn BT"/>
              </a:rPr>
              <a:t>Identificação de novas áreas desmatad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4"/>
          <p:cNvSpPr/>
          <p:nvPr/>
        </p:nvSpPr>
        <p:spPr>
          <a:xfrm>
            <a:off x="468360" y="351000"/>
            <a:ext cx="93582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utura BdCn BT"/>
              </a:rPr>
              <a:t>Distribuição do desmatament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utura BdCn BT"/>
              </a:rPr>
              <a:t>até 2008 no Cerr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Picture 13" descr=""/>
          <p:cNvPicPr/>
          <p:nvPr/>
        </p:nvPicPr>
        <p:blipFill>
          <a:blip r:embed="rId1"/>
          <a:stretch/>
        </p:blipFill>
        <p:spPr>
          <a:xfrm>
            <a:off x="2898720" y="1403280"/>
            <a:ext cx="4275360" cy="572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"/>
          <p:cNvGraphicFramePr/>
          <p:nvPr/>
        </p:nvGraphicFramePr>
        <p:xfrm>
          <a:off x="682560" y="2411280"/>
          <a:ext cx="8609040" cy="2430720"/>
        </p:xfrm>
        <a:graphic>
          <a:graphicData uri="http://schemas.openxmlformats.org/drawingml/2006/table">
            <a:tbl>
              <a:tblPr/>
              <a:tblGrid>
                <a:gridCol w="4838760"/>
                <a:gridCol w="1886040"/>
                <a:gridCol w="1884240"/>
              </a:tblGrid>
              <a:tr h="487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2946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ffffff"/>
                          </a:solidFill>
                          <a:latin typeface="Futura BdCn BT"/>
                        </a:rPr>
                        <a:t>2002 (%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2946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ffffff"/>
                          </a:solidFill>
                          <a:latin typeface="Futura BdCn BT"/>
                        </a:rPr>
                        <a:t>2008 (%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2946a"/>
                    </a:solidFill>
                  </a:tcPr>
                </a:tc>
              </a:tr>
              <a:tr h="487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Áreas desmatada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43,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47,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975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Vegetação remanescen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55,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51,5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87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Corpos d’águ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0,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000000"/>
                          </a:solidFill>
                          <a:latin typeface="Futura BdCn BT"/>
                        </a:rPr>
                        <a:t>0,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</a:tbl>
          </a:graphicData>
        </a:graphic>
      </p:graphicFrame>
      <p:sp>
        <p:nvSpPr>
          <p:cNvPr id="314" name="Text Box 4"/>
          <p:cNvSpPr/>
          <p:nvPr/>
        </p:nvSpPr>
        <p:spPr>
          <a:xfrm>
            <a:off x="574560" y="351000"/>
            <a:ext cx="893124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utura BdCn BT"/>
              </a:rPr>
              <a:t>Desmatamento no bioma Cerrado entre 2002 e 2008, tendo como referência a área total do bioma - 2.039.386 km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CaixaDeTexto 4"/>
          <p:cNvSpPr/>
          <p:nvPr/>
        </p:nvSpPr>
        <p:spPr>
          <a:xfrm>
            <a:off x="825480" y="5769000"/>
            <a:ext cx="842976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6000"/>
              </a:lnSpc>
              <a:buClr>
                <a:srgbClr val="000000"/>
              </a:buClr>
              <a:buFont typeface="Futura BdCn BT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utura BdCn BT"/>
              </a:rPr>
              <a:t>Desmatamento de 85.074 km² entre  2002 – 2008 (4,17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buClr>
                <a:srgbClr val="000000"/>
              </a:buClr>
              <a:buFont typeface="Futura BdCn BT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buClr>
                <a:srgbClr val="000000"/>
              </a:buClr>
              <a:buFont typeface="Futura BdCn BT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utura BdCn BT"/>
              </a:rPr>
              <a:t>Taxa anual média de desmatamento: 14.200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Futura BdCn BT"/>
              </a:rPr>
              <a:t>km²  (0.69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CaixaDeTexto 5"/>
          <p:cNvSpPr/>
          <p:nvPr/>
        </p:nvSpPr>
        <p:spPr>
          <a:xfrm>
            <a:off x="1398960" y="6066000"/>
            <a:ext cx="266040" cy="3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16" descr="desmate_caatinga"/>
          <p:cNvPicPr/>
          <p:nvPr/>
        </p:nvPicPr>
        <p:blipFill>
          <a:blip r:embed="rId1"/>
          <a:srcRect l="0" t="0" r="33678" b="0"/>
          <a:stretch/>
        </p:blipFill>
        <p:spPr>
          <a:xfrm>
            <a:off x="504720" y="1116000"/>
            <a:ext cx="6064200" cy="646920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4"/>
          <p:cNvSpPr/>
          <p:nvPr/>
        </p:nvSpPr>
        <p:spPr>
          <a:xfrm>
            <a:off x="360360" y="179280"/>
            <a:ext cx="93582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Futura BdCn BT"/>
              </a:rPr>
              <a:t>Distribuição do desmatamento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Futura BdCn BT"/>
              </a:rPr>
              <a:t>em 2008  no bioma Caating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Picture 17" descr="desmate_caatinga"/>
          <p:cNvPicPr/>
          <p:nvPr/>
        </p:nvPicPr>
        <p:blipFill>
          <a:blip r:embed="rId2"/>
          <a:srcRect l="66484" t="81267" r="0" b="0"/>
          <a:stretch/>
        </p:blipFill>
        <p:spPr>
          <a:xfrm>
            <a:off x="6624720" y="5940360"/>
            <a:ext cx="3278160" cy="12956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8" descr="desmate_caatinga"/>
          <p:cNvPicPr/>
          <p:nvPr/>
        </p:nvPicPr>
        <p:blipFill>
          <a:blip r:embed="rId3"/>
          <a:srcRect l="68511" t="2233" r="0" b="58826"/>
          <a:stretch/>
        </p:blipFill>
        <p:spPr>
          <a:xfrm>
            <a:off x="6985080" y="1476360"/>
            <a:ext cx="2879640" cy="2519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laudia</dc:creator>
  <dc:description/>
  <dc:language>en-US</dc:language>
  <cp:lastModifiedBy>Claudia</cp:lastModifiedBy>
  <dcterms:modified xsi:type="dcterms:W3CDTF">2010-03-25T01:19:14Z</dcterms:modified>
  <cp:revision>175</cp:revision>
  <dc:subject/>
  <dc:title>Slide 1</dc:title>
</cp:coreProperties>
</file>